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D76C-506E-42A8-80AC-A76985FC6E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FE8-5E89-442C-8F76-322FDAAE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48D-EED3-41AD-ADD2-015FEF12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186-2E43-4DB9-A2BF-322C3D00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B1E-EAD9-4BAE-A5A2-B75C75D3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0E4-5586-4FEA-90C4-607A6F02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6F9-65D4-475E-B51A-2B25D59B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B29-AB4F-43BC-96A7-442270CC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8F3-4CA9-4282-8C6A-8A81612E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92B-E418-400C-AFEE-83B4E47F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4B0-3C35-42E7-B3D7-9FE744DB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EFF-DF01-4535-BC5D-A7BA2194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0E3-8D5C-4D17-A245-1B62A07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EB17-D0EC-4D71-B658-5FFE6E8FB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600200" y="1219320"/>
            <a:ext cx="634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XTERNAL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52480" y="30481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07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58520" y="495288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9480" y="114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286000" y="228600"/>
            <a:ext cx="46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unctions of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2720" y="175248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77640" y="2378160"/>
            <a:ext cx="56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61960" y="3429000"/>
            <a:ext cx="38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656520" y="4495680"/>
            <a:ext cx="422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opy of ex structure3"/>
          <p:cNvPicPr/>
          <p:nvPr/>
        </p:nvPicPr>
        <p:blipFill>
          <a:blip r:embed="rId1"/>
          <a:stretch/>
        </p:blipFill>
        <p:spPr>
          <a:xfrm>
            <a:off x="0" y="87480"/>
            <a:ext cx="8763120" cy="67705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9907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4320" y="5911920"/>
            <a:ext cx="153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IN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06960" y="518148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484400" y="54864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864960" y="4267080"/>
            <a:ext cx="72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94240" y="4343400"/>
            <a:ext cx="78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801240" y="838080"/>
            <a:ext cx="11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9280" y="1523880"/>
            <a:ext cx="84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64840" y="2971800"/>
            <a:ext cx="8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36440" y="38862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860120" y="19810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34880" y="3505320"/>
            <a:ext cx="93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003480" y="152280"/>
            <a:ext cx="192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ERMINAL 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6080" y="152280"/>
            <a:ext cx="129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X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7560360" y="22860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H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7520" y="0"/>
            <a:ext cx="725364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61600" y="184932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76520" y="487692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BELOW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828800" y="228600"/>
            <a:ext cx="544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ypes of Root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" name="Picture 5" descr="fibrous root"/>
          <p:cNvPicPr/>
          <p:nvPr/>
        </p:nvPicPr>
        <p:blipFill>
          <a:blip r:embed="rId1"/>
          <a:srcRect l="33363" t="15452" r="35633" b="11208"/>
          <a:stretch/>
        </p:blipFill>
        <p:spPr>
          <a:xfrm>
            <a:off x="917640" y="998640"/>
            <a:ext cx="373068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261400" y="990720"/>
            <a:ext cx="24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338080" y="2438280"/>
            <a:ext cx="342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924680" y="4648320"/>
            <a:ext cx="381240" cy="121896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 rot="10800000">
            <a:off x="8305560" y="4111920"/>
            <a:ext cx="667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dwt2-31"/>
          <p:cNvPicPr/>
          <p:nvPr/>
        </p:nvPicPr>
        <p:blipFill>
          <a:blip r:embed="rId1"/>
          <a:stretch/>
        </p:blipFill>
        <p:spPr>
          <a:xfrm>
            <a:off x="533520" y="380880"/>
            <a:ext cx="3252600" cy="5867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4495680" y="457200"/>
            <a:ext cx="381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p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330440" y="1284120"/>
            <a:ext cx="32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348440" y="2438280"/>
            <a:ext cx="39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99280" y="358128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68760" y="4343400"/>
            <a:ext cx="38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14600" y="22860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erial 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aerial root"/>
          <p:cNvPicPr/>
          <p:nvPr/>
        </p:nvPicPr>
        <p:blipFill>
          <a:blip r:embed="rId1"/>
          <a:srcRect l="63213" t="15339" r="14507" b="42512"/>
          <a:stretch/>
        </p:blipFill>
        <p:spPr>
          <a:xfrm>
            <a:off x="609480" y="99072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013360" y="110340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05520" y="281952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029200" y="426708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066680" y="304920"/>
            <a:ext cx="7086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alized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Picture 5" descr="250px-Roots_by_cesarpb"/>
          <p:cNvPicPr/>
          <p:nvPr/>
        </p:nvPicPr>
        <p:blipFill>
          <a:blip r:embed="rId1"/>
          <a:stretch/>
        </p:blipFill>
        <p:spPr>
          <a:xfrm>
            <a:off x="457200" y="137160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401160" y="2133720"/>
            <a:ext cx="209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op  roots"/>
          <p:cNvPicPr/>
          <p:nvPr/>
        </p:nvPicPr>
        <p:blipFill>
          <a:blip r:embed="rId1"/>
          <a:srcRect l="68915" t="14666" r="0" b="27292"/>
          <a:stretch/>
        </p:blipFill>
        <p:spPr>
          <a:xfrm>
            <a:off x="304920" y="2286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31000" y="1436760"/>
            <a:ext cx="14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06:26Z</dcterms:created>
  <dc:creator>Ryan Hill</dc:creator>
  <dc:description/>
  <dc:language>en-US</dc:language>
  <cp:lastModifiedBy>LEGION2</cp:lastModifiedBy>
  <dcterms:modified xsi:type="dcterms:W3CDTF">2016-01-13T09:34:52Z</dcterms:modified>
  <cp:revision>8</cp:revision>
  <dc:subject/>
  <dc:title>Slide 1</dc:title>
</cp:coreProperties>
</file>